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7C2A-AA85-488D-AC1F-80BF0F4D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CD6D-C352-4F71-97AC-1945B08D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52B7-85A1-4AD8-B58A-D5CC0C0A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CBBA-1CEE-4672-B381-23319849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F964-1932-4E83-9CE1-18DDBFF1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F88A-0505-40F1-9941-728A2DE8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252E-3148-4B00-B5A9-3047EBD1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2AF4-3F61-4FB7-A821-925C3C64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313F-481A-43BC-A2C2-558A32AE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3BC4-4F9A-4DBF-84D4-A9CD6187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72C1-AD99-4853-A4DB-E0AB010D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CE07-0FBF-413D-B17A-04824749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C729-8968-400A-B18F-CD9AB05E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108D-847A-418A-9BE2-3064B3E2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CD5A-276C-413F-BD3B-49940057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0379-3D1C-4C8A-860E-8F920755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FEEC-0069-4ED8-A17D-43CAD327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A600-0642-41B9-8566-132CB3DA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091A-6B82-4F5F-BE01-001B8884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CE73-9D04-4353-83C4-C3401BDE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A2A4-1170-4002-B6FC-65097587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BEB3-6457-496A-8224-A99695E4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5491-DAFC-4A17-9ADF-9C17C82A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D794-5128-4195-9C9D-36D76878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8DBE-4553-4E48-9B61-C9D2E03E5A5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285F-F207-4BE0-8889-4CEB449412D4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6633"/>
                </a:solidFill>
                <a:latin typeface="Times New Roman"/>
              </a:rPr>
              <a:t>Your Name</a:t>
            </a:r>
            <a:endParaRPr b="0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047760"/>
            <a:ext cx="769644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a08366"/>
                </a:solidFill>
                <a:latin typeface="Times New Roman"/>
              </a:rPr>
              <a:t>AP Calculus</a:t>
            </a:r>
            <a:endParaRPr b="0" lang="en-US" sz="46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a08366"/>
                </a:solidFill>
                <a:latin typeface="Times New Roman"/>
              </a:rPr>
              <a:t>Adv. Algebra and Trig</a:t>
            </a:r>
            <a:endParaRPr b="0" lang="en-US" sz="46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a08366"/>
                </a:solidFill>
                <a:latin typeface="Times New Roman"/>
              </a:rPr>
              <a:t>Period</a:t>
            </a:r>
            <a:endParaRPr b="0" lang="en-US" sz="46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996633"/>
                </a:solidFill>
                <a:uFillTx/>
                <a:latin typeface="Times New Roman"/>
              </a:rPr>
              <a:t>Notebook Setup</a:t>
            </a:r>
            <a:endParaRPr b="0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Notebook -- 10 pts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267480" indent="-2674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Date -- 10 pts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267480" indent="-2674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Assignment -- 10 pts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267480" indent="-2674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Pencil -- 10 pts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267480" indent="-2674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Corrections </a:t>
            </a:r>
            <a:r>
              <a:rPr b="0" lang="en-US" sz="3000" spc="-1" strike="noStrike">
                <a:solidFill>
                  <a:srgbClr val="fc042d"/>
                </a:solidFill>
                <a:latin typeface="Times New Roman"/>
              </a:rPr>
              <a:t>(in non-black pen)</a:t>
            </a: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 -- 10 pts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267480" indent="-2674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Organization -- 10 pts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7 tabs: 1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, 2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, 3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, 4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, handouts, notesheets, homework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67480" indent="-2674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illed-in note sheets -- 10 pts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Content -- 30 pts</a:t>
            </a:r>
            <a:r>
              <a:rPr b="0" lang="en-US" sz="3100" spc="-1" strike="noStrike">
                <a:solidFill>
                  <a:srgbClr val="402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**Entire notebook (August – May)  due at the end of the ye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7 Tab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qt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ou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teshee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omewor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qt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qt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qt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7 Tab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2nd qt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outs (wherever you want them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teshee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omewor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qt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qt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qt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7 Tab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3rd qt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outs (wherever you want them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teshee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omewor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qt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qt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qt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7 Tab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4th qt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outs (wherever you want them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teshee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omewor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qt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qt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qt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ead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Name </a:t>
            </a:r>
            <a:r>
              <a:rPr b="0" lang="en-US" sz="3500" spc="-1" strike="noStrike">
                <a:solidFill>
                  <a:srgbClr val="402000"/>
                </a:solidFill>
                <a:latin typeface="Times New Roman"/>
              </a:rPr>
              <a:t>(Student #)</a:t>
            </a:r>
            <a:endParaRPr b="0" lang="en-US" sz="3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Date 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Time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(it took to complete assignment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Assignment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2T17:51:52Z</dcterms:created>
  <dc:creator>SCPS</dc:creator>
  <dc:description/>
  <dc:language>en-US</dc:language>
  <cp:lastModifiedBy>Jackie Wetmore</cp:lastModifiedBy>
  <dcterms:modified xsi:type="dcterms:W3CDTF">2014-08-18T15:42:06Z</dcterms:modified>
  <cp:revision>28</cp:revision>
  <dc:subject/>
  <dc:title>Mrs. Wetmore</dc:title>
</cp:coreProperties>
</file>